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FB3A-9DFA-4AA1-A6A5-37E232B5F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02BF-1F32-4A90-A7CD-D76E349F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83600-166A-4FEF-A87E-9555E28F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ACCBDE-A691-41F7-84CC-E3668041C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9F543F-49F5-419D-9185-5E6957FB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65ECB-7DF9-430A-83F6-6465ABC5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4A2BFA-976C-45DD-8221-615A2952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CDFAFE-2B0D-49B8-A7A9-7CFCFE69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DDA5B4-0898-4C3C-956B-3520E7FE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F82400-B804-4B5C-A4A1-9E8D22EE6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44B915-E0C7-43D8-8E62-FB9A91CDE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9DC763-7F92-4891-98E0-A416A84C0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DC40-4FA5-4078-8697-44913768A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623CB9-8638-477D-9087-4DFBA748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BA785B-1B2D-4F3F-AF50-EF969BCF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4D1041-1117-4AA4-80E9-CE54574D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C3B5F4-A2E9-4E34-8841-DC958DF4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779034-864E-439F-ABF0-7B3FEE21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30B9E2-DEA9-4C12-B269-85CECF79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391A4F-77F3-4CD6-AD2E-F2A08599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23BA5A-3E99-49C2-887C-226C1ECA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4879B9-62E2-42D4-8381-BAFBF274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08933C-D3C0-48C6-AD0A-7A835A857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6B50-01CC-49A9-BFD6-A3C35B217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88335A-A293-420D-B504-D76955722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6E9AA-5A0A-4E9F-9C36-5686E0A51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D1621-8710-4330-B3B1-6C9BCC1C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260E8-2012-441F-84B5-1E9B757C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2CA245-617F-42C6-B629-3534E9BC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6D6D25-9D25-4CDE-8A33-9E89A783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378AD-EF0B-45CC-8BE0-A8C72ACE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887B06-5916-4A17-896E-AAEE05C9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C5158F-FF88-4AAD-A90F-3E365085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02F19-2D4F-46DC-AC36-12E8FF34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B0BB-585A-4DB3-89B8-99DF23D02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68109D-9B6C-4C74-A7D4-0FB6B30A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B49124-51EE-430E-A0B9-B077F56B8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B3BAE-1C65-4C86-962D-DDF387796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536B8D-A37F-41C1-95C0-ED8FB39E5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F4D492-1BF5-491F-9A99-B6F012B1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F9D524-C8FD-43E6-A025-22443A2B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B63E0D-6A31-4854-A375-953B994F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706F5C-995A-4DBA-8EB7-35E9E4A2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CE634F-07C7-4814-BD10-9DE709DE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841557-23BE-4246-BFD0-0CA2839D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3AAF-E16E-4BD8-BF20-5F9D935B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610C4B-1B5F-443D-80F4-CAB67E13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D1ADCA-FC53-44C6-BCA0-B03D2A84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3DDEA3-E2AA-4364-A40F-768073E1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5FAD02-6605-4B95-B62F-B61DDB7DC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B8A533-F9E5-45F6-915D-278D9CE2D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C5ABD0-DF56-47DF-AA1F-5FB56B24E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1BBC75-04B4-4AC8-A1FE-3EA051C7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3F4F29-AA58-4911-AAB5-47285832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B2DFA1-95C8-48E2-9AC7-03CF8B95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218FC7-BDFC-470D-894F-197E7948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A7A34-2FED-49C3-B864-27BF9125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D1D1A7-A201-4880-A642-A9F3C752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4A997D-007B-4E0F-BD75-FE5EE772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7ADE4D-6B06-4601-8A3E-FDA0F050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E2C556-D028-4349-8A50-27230489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5ADC6F-1B8C-479B-A0A0-E95D09D3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035C08-7723-4D0A-8BD2-A5FD0F599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14EC32-9FDB-46A3-9D09-9DFE537D8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AAB838-501B-42D7-BAA8-E524C9BF7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6D10D6-9A87-493C-B4ED-8B197585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5CE582-1DA6-4618-8326-A882CAB1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F885-4E3B-454D-9FE4-436D8CF2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5FD957-4040-40BB-949A-3530BFB2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F84625-E2FF-46AF-A986-CAC32B9D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7CDF4A-D0D2-4B88-BCBE-07E85C80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ADB828-781C-4317-AC94-064F3E48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D5045F-31F8-4E8F-AAB9-18DB2EE9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5D59FE-73D3-4E23-BA3E-EB52C86F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E5A3B7-0D6B-4E56-8EE1-5C4F99A2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F06663-CEEA-42C5-916D-9D2FCA313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549939-EF2E-4A0B-8BC4-423AA062F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44634C-3CBE-491E-8DF9-5267C75B8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6926-B0C8-4F83-AB80-37E0E6A0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ED2204-9A22-4BA4-A52E-69C67B03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1A5FDF-43FD-4758-954C-739CC7CF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BCD6BF-47EF-4C44-AAEB-4281858D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E02E42-0E88-4F38-89FC-B6BDFFE0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D50A32-1747-48DE-BF03-B53B47F0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35D707-CF0A-4F64-9BC1-00BDDBA4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35DF3B-DA7D-4E9E-A13B-06934945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8FD25A-FBD0-4D44-80BE-0132972C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15BF1D-CCE6-4B98-8116-206EED27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7E3148-1F95-4D34-963E-E4EDF9B1C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8650-8B9D-4FAA-A394-312E7921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7D6320-8226-4B94-A485-ACE6A53AA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EE0D72-06EC-41C0-ABAD-33A28F323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3CBA47-D93F-4BC8-856F-D8D4E0BC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6825F0-B843-436E-94CE-972E8216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283EB5-3C45-4D43-A7AC-0E679BE3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0CA384-A747-4330-ACCB-3FDF69C6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8DD5B7-525C-4E11-959C-1104F4A2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322CB1-439F-462C-BEB1-0CBAC9C5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012CC5-95A3-44DD-9F02-3A179634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02B19B-2719-478D-A902-9E673677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A2FE-213E-42F0-A359-426F1A51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AEF680-0E52-4D02-B945-946A6618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77B57C-A326-4596-A769-4353AF135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9267E0-2DED-467A-A096-5BFA1A333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F3F77F-0218-4632-819E-7919E8949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28C496-F1A8-49D3-A006-F5397C52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E9138A-673C-48A9-862B-AADF3A65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3D2B75-E965-4F89-AA47-7A65D1D9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8DC44B-00E0-4DBD-A606-6E44BA95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BA6D75-B383-499B-A967-3DEEF94C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D6093B-65D1-4693-9939-ABFD3340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AD10-27F7-4049-B022-A338691C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A5292-85AA-49F4-90BC-76191191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DFF3C2-0797-47A9-82F5-6F9D849C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22111E-1833-4F27-9AEA-E1C85298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693013-063A-4BCE-9D90-D81079DD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D52BF9-5C23-420B-9B75-7E78DC6FC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A1B8B3-48D1-470B-92D1-C1FF2369B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A4ED10-FCCE-405B-BAE1-6F70726F0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F99C75-BBA9-4341-A14E-B65A9795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23A5FA-914E-41A3-91A8-E01F407B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5A82BC-C267-4912-8347-6D8250D3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9A3E28-E33C-4990-94CF-C2BCFC75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6946-8B42-49FC-9F9D-4D56D864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B16EC7-A127-498F-879E-3D065D5A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A91289-5306-4FB4-A776-8232D97B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BC1902-14AB-4724-908E-15E868DF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6175B3-DFB4-489E-9A66-AA329DCC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2954BB-0135-4A29-8D97-07138797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65FB16-3176-484B-87BC-ACE439CC7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BB2686-57EA-4481-AFC6-AB76DE7DD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443214-F8B8-4348-9983-BD81FA170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434176-BB3E-45CE-AB65-2EF62F3C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BEE3AB-C7EC-44F6-AB16-E0ECFD8C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53B2-723F-4A78-AFB4-39E5FCEC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645678-694C-4DEA-B0B8-5A0384DA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76BA14-EDEF-4938-B143-39637B05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AB2297-93B9-4509-A58F-CBB74692A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9AB5E3-BE50-4F7A-9D88-4DE8674E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F4E046-C588-455F-8B2B-30EAB9FF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A67584-06DD-43E5-9413-53D6A05C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891756-D19D-447E-870B-CFD1E2B2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207720-7ECA-4192-A2F4-2D3D8B2C6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FE78C1-DE1D-4A66-8C8A-D18448D06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718EE5-B6E9-4AE7-84C6-E60E580B1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B68C-297E-4662-BA7B-3932766E3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67EF12-8792-47FC-AC66-98697C0A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5F14A4-8FE0-4281-B241-5F76B254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AF69B8-97F9-4149-A749-72954005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DCCD5A-B684-4782-9EE9-B50B7824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AC898C-1D85-4CC5-A464-B9508CF9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23A2C7-3616-4808-B80F-60E4CB0A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5B908E-6C68-4094-B7C4-A0AB4DE3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6F325C-8ADE-43AB-9438-D3E008E1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7FF1D8-B320-4838-913F-6B67FF83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2B2616-25D0-4384-955D-E18634A74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8049-3074-44F4-8896-90FD76B26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B077DA-61EB-4E25-8270-5BF51D8A3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6236FA-32E7-4DC5-9617-5B4F95DFA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3258AC-4A27-4B67-A35D-72831B04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3972E2-592A-4C67-95B2-C9F37DFE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C12E49-67DC-44A2-86DF-0C00E9C7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85EC04-A1C4-4ED1-A515-8D73724A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4FB2E8-BD9B-476D-A186-381DACA3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6780BA-6E8F-4CFF-801B-A73AAAF0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E3823A-A371-4BD6-8E11-9A2E5D51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6F832C-1FD9-46AF-B8CB-AE1ED41A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DDCB5-B9C9-49AA-897D-57B6A76F1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75F831-6FFF-4B26-8160-0B58154F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F36A71-35F9-4635-9015-8D9C4D0D0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839672-A753-4858-876E-A8EC1D724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E4BD1-537F-42E3-8CE8-29027731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B821E-0827-4D87-BE7D-45D0FE27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2DDE1-64C8-4323-AE86-59304F70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BB9C8-D456-4E23-81C5-C0791159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768F-F556-4345-9CE0-718D7045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B153F-2F65-4587-8E00-FD6AB176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D2F58-827C-4E40-8288-BD4A624D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64E65-0DB3-4987-B8EA-478F348C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54CCE-5AEB-4093-B2A4-0DF8707A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E3421-218D-449C-AC00-C672A434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35649-202B-4665-82EA-47459D342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82D83-DD29-4579-9C2C-BF4208B96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34979-751C-40CF-813B-0C43A193E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CCBF0-AF15-4D2D-9399-369D629F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00959-1A18-436D-A616-AAA28ECB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5414-A2DC-4259-AE39-50B5037B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A7787-1F7F-4B85-ABEE-39390819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9CF1A-CD77-4723-8C3B-1BF6FD1A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A470E-0E1F-4712-A42B-BC667C30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F6BEB-1494-4D1E-9389-A2C1C66B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84F35-EA74-44E6-98FB-3546C7E1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84F43-A4AF-4BC4-8614-C2F5951B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07857-0477-4766-A7E1-956961DE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59A64-F97B-4380-966F-98F5D9FB3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7D976-944D-4B8B-84CC-49CEA95B6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A0A7E-7A4E-426E-B5BA-AE1724480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8ED3-A418-43DF-A89C-54B700C6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064D0-ED77-42F5-A9FC-9E5AA0B6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1AD34-77BF-42DB-A717-E6E95F27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1919C-9C5A-4C5B-8F45-E89E07EC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0655E-7879-4965-AD48-C03F2922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81BBB-4BD1-4835-917C-0F2E7227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25362-5EFE-47F9-A03E-FACE1829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4E599-FEE1-4E67-878A-33A0B1C4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83B4E-DAEF-41B5-B9A6-D1703C88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E3355-0943-447E-9B44-369CB87D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6EA67-8798-4F7A-91EE-18F9ABFFE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6FE5-7AF4-4D58-A394-A5EA0D4B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46375-F928-4157-85EE-F6B3008D9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F916E-C37B-4BC9-9AC9-CC15301D3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D9F94-BA3F-452B-A8B7-04CBC39F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74C24-D04B-45DD-B01C-F70CB307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23ED3-77E2-4C26-8D0C-06462644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593C1-B5DD-4366-9309-32554524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A4085-1637-4ED8-AD9A-487B5D1F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90F68-CF43-46B1-8010-529E682D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1EC2E-1809-4E77-A6CC-31208BA4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AB29A-6DBA-4AD9-9175-7083C51D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27C3-39F0-417F-AC01-847D4875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C1FAC-0A31-46D1-AD99-E04EF8FE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70CD0-B52B-406B-93BF-148A05D0C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D8869-58FC-459D-AA84-5B8666403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D6110-E6A4-4987-AA43-CE5A7E14E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EB862-5420-47B9-ADB3-B524A0B5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432DB-4F59-4F34-B0F5-0B930533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FC479-394F-4323-BE2F-8F851F84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E7B30-7C6C-4764-AC34-1D8968EC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D0FEC-4078-416E-883E-F568BCB6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12FE8-3644-4638-87CA-271B8EA1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0951-76BC-464A-85AC-6991C9B8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78C5E-4C04-4B94-9BC8-212CA444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6685F-7A2E-4D0A-9872-F148C313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8949C-7F60-4B2E-BECF-A87420EB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F6D6F-7A38-4FBC-AFCB-E75397C1C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A4372-7F54-47CB-A34D-A84FBC072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D6377-5AF6-4E08-B573-A34E8B47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6AD5E-6C6D-43B1-9E96-A558DB99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D763B-DC60-4FFE-BC69-5C78C41F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B8FDD-C293-481D-843B-5ADFBAE8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BABD5-4474-46CB-B52B-5566F775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2921-A0D6-4CCB-BBA3-CAA0AA22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820C3-7B81-44D6-A604-91F8BF16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09EE7-A467-49FE-8677-8B42D1AB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E132B-5D1E-4E9B-8EF8-0D209851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D693F-AF64-4D2C-836F-61196335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879D6-1BBE-4631-9288-8E6A3829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2971E-2D2B-450F-8F59-88F3420F8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37969-6FC8-48C5-BD32-F5F2B52CA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DEDF61-4538-48C5-92A8-47019326B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6694E5-C920-4B75-99BC-6FFA6F79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CE48FF-FE51-41F7-98FD-171CB611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DE12-3829-4DFA-9C99-6E36FAC7F6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88CC-6306-42FA-A858-541479C4DE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BC40-3A53-4CB3-ACAD-9B0960756A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82B5-36EE-4438-ADB4-4679429783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11A3-FA5E-4D1A-A6FA-B123E52DFE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0F60-7830-47F2-B47C-1CA9EAC9EA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A689-F343-4142-8028-FFBEF06AB4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2C4D-C5DE-4438-B564-882107FF57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670A-37CE-456E-8773-57483AC99C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EF18-C1A9-4869-BE9B-47FE877468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A1F4-5352-4E49-87D1-8A6B651F67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A802-8A18-402A-A456-F500FE0D89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A3BC-4F9C-471B-9907-30CFAA7BBC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88A7-760B-4E43-9B38-ECF96EE25D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4CE9-962E-4AEB-A351-79719FEC94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FD10-4663-4594-BB86-018D9F1D3F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2C64-915E-4449-A42D-72CCC4FA17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F562-39C5-4B4F-9AB6-FB98472877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AFD6-C158-4168-B19A-D06CFD7909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3D31-91E3-4E6A-B4CB-CB9C449D86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7417-E4A6-4F09-91D8-F3ADC65734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3A64-B872-48B0-A34E-EA54CB931E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3B6C-15DD-4B6A-914B-A9015BBAC2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88DE-6F97-4A75-8286-EB26130A8C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D563-136D-4890-9322-5E93E858AE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4F62-FD59-4B43-8485-14A7A65E1B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8391-C679-4090-A31A-892478FB9D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0BBC-945F-4F77-8C74-171ECC7F96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E25F-2C28-4C8C-AE8A-FA3B69F40C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C1EB-3629-4F4A-9210-BF6A9D235C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A750-A4CA-494A-B8DC-E2C5A9BC05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CB14-DCDA-40E6-AA61-8D7DD2BCEC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9B4C7-E571-48A2-A498-46F6B3C6D7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43A3-E151-4940-AD0D-CA9B67C766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CBC0-4106-417F-85AC-86F2CA1B1C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E5AF-7A13-41F5-B382-B908382378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A276-2468-41CF-B628-CE4B6AAD8F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F21C-96F0-4234-B8A5-6F59993F48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8828-F4CF-4538-84CB-4B50F28FC4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2680-98ED-401E-8392-E630302B57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819000" y="2976480"/>
            <a:ext cx="750600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8" name="图片 52231" descr=""/>
          <p:cNvPicPr/>
          <p:nvPr/>
        </p:nvPicPr>
        <p:blipFill>
          <a:blip r:embed="rId1"/>
          <a:stretch/>
        </p:blipFill>
        <p:spPr>
          <a:xfrm>
            <a:off x="938160" y="1420920"/>
            <a:ext cx="7267680" cy="2152440"/>
          </a:xfrm>
          <a:prstGeom prst="rect">
            <a:avLst/>
          </a:prstGeom>
          <a:ln w="0">
            <a:noFill/>
          </a:ln>
        </p:spPr>
      </p:pic>
      <p:pic>
        <p:nvPicPr>
          <p:cNvPr id="979" name="图片 52232" descr=""/>
          <p:cNvPicPr/>
          <p:nvPr/>
        </p:nvPicPr>
        <p:blipFill>
          <a:blip r:embed="rId2"/>
          <a:stretch/>
        </p:blipFill>
        <p:spPr>
          <a:xfrm>
            <a:off x="700200" y="3849840"/>
            <a:ext cx="7743600" cy="217152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3"/>
          <a:stretch/>
        </p:blipFill>
        <p:spPr>
          <a:xfrm>
            <a:off x="4140360" y="198900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4"/>
          <a:stretch/>
        </p:blipFill>
        <p:spPr>
          <a:xfrm>
            <a:off x="6877080" y="1989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5"/>
          <a:stretch/>
        </p:blipFill>
        <p:spPr>
          <a:xfrm>
            <a:off x="4889520" y="2637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6"/>
          <a:stretch/>
        </p:blipFill>
        <p:spPr>
          <a:xfrm>
            <a:off x="7667640" y="2637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7"/>
          <a:stretch/>
        </p:blipFill>
        <p:spPr>
          <a:xfrm>
            <a:off x="2050920" y="4365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8"/>
          <a:stretch/>
        </p:blipFill>
        <p:spPr>
          <a:xfrm>
            <a:off x="4702320" y="436572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" descr=""/>
          <p:cNvPicPr/>
          <p:nvPr/>
        </p:nvPicPr>
        <p:blipFill>
          <a:blip r:embed="rId9"/>
          <a:stretch/>
        </p:blipFill>
        <p:spPr>
          <a:xfrm>
            <a:off x="7451640" y="44226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" descr=""/>
          <p:cNvPicPr/>
          <p:nvPr/>
        </p:nvPicPr>
        <p:blipFill>
          <a:blip r:embed="rId10"/>
          <a:stretch/>
        </p:blipFill>
        <p:spPr>
          <a:xfrm>
            <a:off x="2138400" y="5084640"/>
            <a:ext cx="920880" cy="44784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" descr=""/>
          <p:cNvPicPr/>
          <p:nvPr/>
        </p:nvPicPr>
        <p:blipFill>
          <a:blip r:embed="rId11"/>
          <a:stretch/>
        </p:blipFill>
        <p:spPr>
          <a:xfrm>
            <a:off x="5076720" y="5013360"/>
            <a:ext cx="920880" cy="44748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1" descr=""/>
          <p:cNvPicPr/>
          <p:nvPr/>
        </p:nvPicPr>
        <p:blipFill>
          <a:blip r:embed="rId12"/>
          <a:stretch/>
        </p:blipFill>
        <p:spPr>
          <a:xfrm>
            <a:off x="7870680" y="5013360"/>
            <a:ext cx="9208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1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1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6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1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6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1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6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1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71440" y="838080"/>
            <a:ext cx="8601120" cy="51818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2195640" y="358776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5508720" y="358776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2195640" y="422100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7596360" y="4869000"/>
            <a:ext cx="720720" cy="4474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3564000" y="5516640"/>
            <a:ext cx="720720" cy="4474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7308720" y="5516640"/>
            <a:ext cx="720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9410" descr=""/>
          <p:cNvPicPr/>
          <p:nvPr/>
        </p:nvPicPr>
        <p:blipFill>
          <a:blip r:embed="rId1"/>
          <a:stretch/>
        </p:blipFill>
        <p:spPr>
          <a:xfrm>
            <a:off x="647640" y="1228680"/>
            <a:ext cx="7848720" cy="44006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2"/>
          <a:stretch/>
        </p:blipFill>
        <p:spPr>
          <a:xfrm>
            <a:off x="1835280" y="19162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3"/>
          <a:stretch/>
        </p:blipFill>
        <p:spPr>
          <a:xfrm>
            <a:off x="5148360" y="1916280"/>
            <a:ext cx="718920" cy="4474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4"/>
          <a:stretch/>
        </p:blipFill>
        <p:spPr>
          <a:xfrm>
            <a:off x="1692360" y="2563920"/>
            <a:ext cx="718920" cy="4474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5"/>
          <a:stretch/>
        </p:blipFill>
        <p:spPr>
          <a:xfrm>
            <a:off x="5364000" y="2565360"/>
            <a:ext cx="719280" cy="4478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6"/>
          <a:stretch/>
        </p:blipFill>
        <p:spPr>
          <a:xfrm>
            <a:off x="2987640" y="3789360"/>
            <a:ext cx="1584360" cy="4478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7"/>
          <a:stretch/>
        </p:blipFill>
        <p:spPr>
          <a:xfrm>
            <a:off x="7885080" y="3803760"/>
            <a:ext cx="719280" cy="4474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8"/>
          <a:stretch/>
        </p:blipFill>
        <p:spPr>
          <a:xfrm>
            <a:off x="1187280" y="4437000"/>
            <a:ext cx="1152720" cy="4478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9"/>
          <a:stretch/>
        </p:blipFill>
        <p:spPr>
          <a:xfrm>
            <a:off x="5867280" y="4437000"/>
            <a:ext cx="1729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76801" descr=""/>
          <p:cNvPicPr/>
          <p:nvPr/>
        </p:nvPicPr>
        <p:blipFill>
          <a:blip r:embed="rId1"/>
          <a:stretch/>
        </p:blipFill>
        <p:spPr>
          <a:xfrm>
            <a:off x="304920" y="857160"/>
            <a:ext cx="8534160" cy="56674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611280" y="2305080"/>
            <a:ext cx="2881080" cy="4474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468360" y="2938320"/>
            <a:ext cx="2881440" cy="4478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4"/>
          <a:stretch/>
        </p:blipFill>
        <p:spPr>
          <a:xfrm>
            <a:off x="395280" y="3573360"/>
            <a:ext cx="2881440" cy="4478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5"/>
          <a:stretch/>
        </p:blipFill>
        <p:spPr>
          <a:xfrm>
            <a:off x="4932360" y="2319480"/>
            <a:ext cx="3240000" cy="4474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6"/>
          <a:stretch/>
        </p:blipFill>
        <p:spPr>
          <a:xfrm>
            <a:off x="4789440" y="2952720"/>
            <a:ext cx="3240000" cy="4478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7"/>
          <a:stretch/>
        </p:blipFill>
        <p:spPr>
          <a:xfrm>
            <a:off x="4716360" y="3587760"/>
            <a:ext cx="3240360" cy="4478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8"/>
          <a:stretch/>
        </p:blipFill>
        <p:spPr>
          <a:xfrm>
            <a:off x="611280" y="4824360"/>
            <a:ext cx="3240000" cy="4478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9"/>
          <a:stretch/>
        </p:blipFill>
        <p:spPr>
          <a:xfrm>
            <a:off x="468360" y="5457960"/>
            <a:ext cx="3240000" cy="4474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10"/>
          <a:stretch/>
        </p:blipFill>
        <p:spPr>
          <a:xfrm>
            <a:off x="395280" y="6093000"/>
            <a:ext cx="3240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58373" descr=""/>
          <p:cNvPicPr/>
          <p:nvPr/>
        </p:nvPicPr>
        <p:blipFill>
          <a:blip r:embed="rId1"/>
          <a:stretch/>
        </p:blipFill>
        <p:spPr>
          <a:xfrm>
            <a:off x="352440" y="853920"/>
            <a:ext cx="8439120" cy="57438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2"/>
          <a:stretch/>
        </p:blipFill>
        <p:spPr>
          <a:xfrm>
            <a:off x="684360" y="1541520"/>
            <a:ext cx="3816360" cy="4474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3"/>
          <a:stretch/>
        </p:blipFill>
        <p:spPr>
          <a:xfrm>
            <a:off x="684360" y="2205000"/>
            <a:ext cx="3816360" cy="4478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4"/>
          <a:stretch/>
        </p:blipFill>
        <p:spPr>
          <a:xfrm>
            <a:off x="684360" y="2852640"/>
            <a:ext cx="3816360" cy="4478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5"/>
          <a:stretch/>
        </p:blipFill>
        <p:spPr>
          <a:xfrm>
            <a:off x="250920" y="4853160"/>
            <a:ext cx="3816360" cy="4474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6"/>
          <a:stretch/>
        </p:blipFill>
        <p:spPr>
          <a:xfrm>
            <a:off x="250920" y="5516640"/>
            <a:ext cx="3816360" cy="4474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7"/>
          <a:stretch/>
        </p:blipFill>
        <p:spPr>
          <a:xfrm>
            <a:off x="4572000" y="4867200"/>
            <a:ext cx="3816360" cy="4478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8"/>
          <a:stretch/>
        </p:blipFill>
        <p:spPr>
          <a:xfrm>
            <a:off x="4572000" y="5530680"/>
            <a:ext cx="3816360" cy="4478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9"/>
          <a:stretch/>
        </p:blipFill>
        <p:spPr>
          <a:xfrm>
            <a:off x="4572000" y="6178680"/>
            <a:ext cx="3816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57352" descr=""/>
          <p:cNvPicPr/>
          <p:nvPr/>
        </p:nvPicPr>
        <p:blipFill>
          <a:blip r:embed="rId1"/>
          <a:stretch/>
        </p:blipFill>
        <p:spPr>
          <a:xfrm>
            <a:off x="500040" y="2152800"/>
            <a:ext cx="8143920" cy="255240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2"/>
          <a:stretch/>
        </p:blipFill>
        <p:spPr>
          <a:xfrm>
            <a:off x="395280" y="2881440"/>
            <a:ext cx="3024360" cy="44748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3"/>
          <a:stretch/>
        </p:blipFill>
        <p:spPr>
          <a:xfrm>
            <a:off x="395280" y="3573360"/>
            <a:ext cx="3024360" cy="4478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4"/>
          <a:stretch/>
        </p:blipFill>
        <p:spPr>
          <a:xfrm>
            <a:off x="324000" y="4221000"/>
            <a:ext cx="3024000" cy="4478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5"/>
          <a:stretch/>
        </p:blipFill>
        <p:spPr>
          <a:xfrm>
            <a:off x="4572000" y="2881440"/>
            <a:ext cx="3024360" cy="4474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6"/>
          <a:stretch/>
        </p:blipFill>
        <p:spPr>
          <a:xfrm>
            <a:off x="4572000" y="3573360"/>
            <a:ext cx="3024360" cy="4478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7"/>
          <a:stretch/>
        </p:blipFill>
        <p:spPr>
          <a:xfrm>
            <a:off x="4500720" y="4221000"/>
            <a:ext cx="3024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图片 56324" descr=""/>
          <p:cNvPicPr/>
          <p:nvPr/>
        </p:nvPicPr>
        <p:blipFill>
          <a:blip r:embed="rId1"/>
          <a:stretch/>
        </p:blipFill>
        <p:spPr>
          <a:xfrm>
            <a:off x="281160" y="166680"/>
            <a:ext cx="8581680" cy="65246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2"/>
          <a:stretch/>
        </p:blipFill>
        <p:spPr>
          <a:xfrm>
            <a:off x="1547640" y="278136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3"/>
          <a:stretch/>
        </p:blipFill>
        <p:spPr>
          <a:xfrm>
            <a:off x="4643280" y="278136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4"/>
          <a:stretch/>
        </p:blipFill>
        <p:spPr>
          <a:xfrm>
            <a:off x="2714760" y="407664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5"/>
          <a:stretch/>
        </p:blipFill>
        <p:spPr>
          <a:xfrm>
            <a:off x="1763640" y="531504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6"/>
          <a:stretch/>
        </p:blipFill>
        <p:spPr>
          <a:xfrm>
            <a:off x="1187280" y="6180120"/>
            <a:ext cx="5545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图片 55300" descr=""/>
          <p:cNvPicPr/>
          <p:nvPr/>
        </p:nvPicPr>
        <p:blipFill>
          <a:blip r:embed="rId1"/>
          <a:stretch/>
        </p:blipFill>
        <p:spPr>
          <a:xfrm>
            <a:off x="514440" y="1000080"/>
            <a:ext cx="8115120" cy="485784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2"/>
          <a:stretch/>
        </p:blipFill>
        <p:spPr>
          <a:xfrm>
            <a:off x="2195640" y="208908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3"/>
          <a:stretch/>
        </p:blipFill>
        <p:spPr>
          <a:xfrm>
            <a:off x="1332000" y="3284640"/>
            <a:ext cx="720720" cy="4474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4"/>
          <a:stretch/>
        </p:blipFill>
        <p:spPr>
          <a:xfrm>
            <a:off x="2239920" y="443700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5"/>
          <a:stretch/>
        </p:blipFill>
        <p:spPr>
          <a:xfrm>
            <a:off x="971640" y="5315040"/>
            <a:ext cx="4824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5" name="图片 54276" descr=""/>
          <p:cNvPicPr/>
          <p:nvPr/>
        </p:nvPicPr>
        <p:blipFill>
          <a:blip r:embed="rId1"/>
          <a:stretch/>
        </p:blipFill>
        <p:spPr>
          <a:xfrm>
            <a:off x="295200" y="826920"/>
            <a:ext cx="8553600" cy="591516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2"/>
          <a:stretch/>
        </p:blipFill>
        <p:spPr>
          <a:xfrm>
            <a:off x="826920" y="5603760"/>
            <a:ext cx="3889440" cy="44784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3"/>
          <a:stretch/>
        </p:blipFill>
        <p:spPr>
          <a:xfrm>
            <a:off x="539640" y="6308640"/>
            <a:ext cx="7704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7:02:30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